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4D9D8-F0A8-435C-886F-218861839B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A5CD1-0566-4797-A948-E99DE54C41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319B-A6A6-49DE-A749-E9C842B31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121A-39A9-47F5-99D2-A66A846B8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B8C7-67FF-4F8A-8086-583469F3B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CDF1-38E5-413C-B46E-08DA72EA2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9DCF-1440-44A4-B3EA-E860E2289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543A-FC60-47D8-B78F-D5F386234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3714-E120-48AC-BD55-6ADBCD7AA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ABC7-2A09-451A-993C-39B00A328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D00F-638D-4CD8-AF08-849AEFC60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5963-FAB6-448E-9438-E486FA89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684A-41CA-4AF9-AFB1-108DCA7A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6BEE-423D-442F-AD4F-D625118D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F6588-8358-461F-860C-0AC2BD882E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5T09:27:21Z</dcterms:created>
  <dc:creator>Viktor R.</dc:creator>
  <dc:description/>
  <dc:language>en-US</dc:language>
  <cp:lastModifiedBy>Viktor R.</cp:lastModifiedBy>
  <dcterms:modified xsi:type="dcterms:W3CDTF">2015-09-05T09:27:59Z</dcterms:modified>
  <cp:revision>1</cp:revision>
  <dc:subject/>
  <dc:title>PowerPoint Presentation</dc:title>
</cp:coreProperties>
</file>